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E10-006F-4510-9B46-0CFE7941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166-C588-4D61-9BDC-992FE27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22E-82AB-4185-BB05-4F1EB3DA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F2B-6BBA-459B-BB00-71F07077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EF5E-B257-451A-8E0C-D62FEF1E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8249-EBCC-4A67-A897-C59E70B2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C809-CC1E-4D72-9066-030036FF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4E59-7E3B-40E6-AA3B-F2B754F0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D78C-3E8F-4CCF-96DE-88185FA8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74B-BFA0-4258-B648-C73ED5E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F4FF-D3A7-4BB3-B035-A5E6818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DBB-B2CD-49B1-A321-9B0784B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2939-8DCF-448F-8196-02FA1E5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2F9-FA79-42FE-8120-339F099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5210-73AB-4E6C-88CC-5F610FE7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C87-3E78-4A91-BAF0-7A3F2462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EB1-C42B-44C7-8DCB-A84726DA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48A-6CD0-4E47-97C1-15B8F5C5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E33-2FC9-4A6D-A392-92F0C1C6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6A9-5AD0-4CE9-86CC-4CE7A7B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326-0A64-45AB-98C3-31309609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602-364B-4A22-AD0C-5CC769E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B74-B066-4D4E-920F-BA4CCC60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BC3-4250-4FF2-A5E1-13CCF52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3174-8A42-4217-8D6D-CC9BED6BC8B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E6B-E4F0-4A77-BE7F-780EE6A78A9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85;&#1072;&#1095;&#1072;&#1083;&#1100;&#1085;&#1072;&#1103;%20&#1089;&#1090;&#1088;&#1072;&#1085;&#1080;&#1094;&#1072;.ppt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4608720" cy="716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Архитектура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4643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ревни Усть – Барнаульская и Верх – Барнаульская были объединены  благодаря Барнаульскому заводу Демидо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н и первоначальный облик населённого пункта был сформирован под влиянием уральского заводостроения и сибирских городов – острог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хранился план Барнаульского  завода 1748 го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3280" y="404640"/>
            <a:ext cx="392436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гласно ему речку Барнаулку перегораживает мощная плотин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ойме реки образовался пруд. Возле плотины – “заводчиков двор”. Здесь – плавильная фабрика и другие строения завод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равом берегу реки – кирпичные сараи. Это первый кирпичный завод будущего города. А по берегам реки и вокруг завода – улицы посада: Олонская, Мастерская, Солдатская, Купеческие слободы и д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лицы располагались без всякого плана. Завод и посад были обнесены заплотом прямоугольной формы ( что-то типа крепостной стены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69608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илые кварталы города росли, добавляя новые прямоугольные улиц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этот же период был основан Комплекс Демидовской площад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ительство её было завершено в 1862 году. Площадь эта не дошла до нас в первозданном виде. Многое изменилось, стало другим и её название. Но осталось то, что без сомнения можно считать сердцем этого архитектурного комплекса – Демидовский столб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870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1 уров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кова высота Демидовского столба, если известно, что она равняется удвоенной сумме чисел, записанных здесь в двоичной системе счисления: 11 и 100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кова высота Демидовского столба, если средний рост человека ( 1,60 метров) составляет 11,4% от высоты столба ( результат округлите до целых)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75000" y="189000"/>
            <a:ext cx="45511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96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30-40-х года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ека всё строительство в Барнауле велось под руководством знаменитого архитектора, ученика Карла Росси – Якова Николаевича Попо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этот период большое внимание уделяется озеленению город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рнаул становится одним из самых зелёных городов Сибири. Он и до сегодняшнего дня остаётся так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чва во многих местах города была болотистая, что создавало определённые трудности для строительства. Её приходилось осушать, уплотнять и т.п. Это значительно увеличивало сроки строительства, но вовсе не делало невозможным строительство в принцип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64 году Пётр Кузьмич Фролов принялся за реконструкцию разных заводских построек и создание новых. Так была построена первая плавильная фабрика Барнаульского заво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ноября 1837 года царь Никола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утвердил план города Барнаул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359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96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  1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ервая плавильная фабрика представляла собой двухэтажное здание. Длина его равнялась 142  метрам. А чему равна его высота, если известно, что длина здания относится к его высоте как 71:4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ешив задачу первого уровня, найдите, какова высота первого этажа здания, если она составляла 62,5% от высоты всего здания. А на сколько метров потолок в квартирах постройки 70-ч годов XX века ниже (стандартная высота потолка 2,5  м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658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057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?  1 урове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В 1837 году город занимал 780 десятин земли. А какова его площадь в квадратных километрах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Сколько квадратных саженей земли занимал город в 1837 году, если известно, что, посадив на каждый сажени по тюльпану, горожане собрали бы 213 букетов по 11 цветков в каждом и ещё несколько тюльпанов бы осталось (не хватило на целый букет), а до 214 букетов не хватило бы в 10 раз больше цветк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129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1840 году в городе было 3 каменных церкви и 3 деревянны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барнаульские церкви, не смотря на свою скромность в сравнении со столичными, были очень красивы. Кстати, надо отметить, что в Барнауле в то время были не только православ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ркви, но и одна лютеранская. В городе так же были 2 благотворительных и 2 учебных заведе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199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920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?   1 и 2 уров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1840 году в Барнауле было 14 каменных домов. А сколько было деревянных, если их было в 102 раза больше и ещё плюс 50% от количества каменных домов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?  1 уров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лько немощеных улиц и деревянных домов было в Барнауле в 1848 году, если в двоичной системе счисления количество мостов равно 1112 , а улиц – 1000012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1848 году в Барнауле было  столько немощеных улиц, что вместе с деревянными мостами получилось число 40. Если от числа всех немощёных улиц отнять число деревянных мостов, то получится двухзначное число, у которого первая цифра в 3 раза меньше второй, а если число улиц и мостов разделить на вторую цифру разности, то получится 20/3 . Сколько было в городе тогда немощеных улиц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торой полови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ка планировка города не изменилась. Оставались всё те же  квадраты, только их стало больше. Старый центр города – Соборная и Демидовская площади – стал терять своё значение. Зато всё большее значение стали приобретать Московский проспект, Иркутская и Большая Тобольская улицы. На этих улицах строились магазины, торговые дома, банки, представляющие собой очень красивые здания. В качестве примера можно привести торговый дом купца Полякова, располагавшийся на Московском проспекте. Это здание сохранилось с некоторыми изменениями и до наших дней. Сейчас в нём располагается ТЦ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840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7696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? 1 урове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 данным губернского начальства в 1858 году (205*4+3) десятин земли находилось внутри городской черты и (1111*32) десятин вне городской черты принадлежало барнаульцам. Найдите, сколько всего десятин земли принадлежало Барнаулу в 1858 го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ешив задачу 1 уровня, переведите десятины в квадратные метры и запишите получившееся число в стандартном ви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83628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ногие здания Барнаула, построенные в начал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ека, несут черты модерна. Но “ барнаульский модерн” имел свои особен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как бы представлял собой синтез архитектуры и искусства этой эпохи. Очень характерным представителем стиля является дом купцов Полякова и Яковлева на улице Томск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угой архитектурный стиль того времени – эклектика. Он менее красив. Этот стиль как бы отвергает условности, он более  произволен. Один из домов, построен в стиле эклектики, - четырёхэтажный особняк купца Аверина. Барнаульцы называли его “небоскрёбом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щадь города неуклонно увеличивалась. К 1902 году она была равна уже 471 десятин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?  1 и 2 уров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На сколько километров увеличилась длина улиц и переулков Барнаула, если в 1912 году она была примерно 123 версты, а в 1999 году 84  к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варталы застраивались очень плотно – двор в двор. И если учитывать, что очень многие здания были деревянными, то понятно, что совсем не редкостью были в городе пожары. Только за 1914 – 1915 годы их произошло около 116. А 2 мая 1917 года в городе начался самый крупный пожар. Огонь был на столько силён, что большинство даже каменных зданий выгорело совершенно и не подлежало восстановлению. В огне погибло около 300 тысяч кубических метров стро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  1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Во время этого страшного пожара за сутки в огне погибло 53 наиболее благоустроенных квартала лучшей городской застройки и 506 усадеб с 1000 домов на них. Сколько в среднем за час сгорало кварталов и усадеб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ешив задачу 1 уровня, определите, сколько процентов от числа сгоревших за час кварталов составляет число сгоревших за час усадеб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7696440" cy="69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ля ликвидации проблемы погорельцев городскими властями было принято решение создать в Барнауле город – сад по схеме, описанной Э. Говардом в его книге “ Город – сады будущего”, изданной в 1902 году. Город – сад должен был иметь форму круга с радиусом приблизительно 1  километр. В его центре – круглая площадь, а от неё должны были отходить бульвары, пересекая кварталы застроек и круговые улицы. Но этому романтическому плану не суждено было сбыться по ряду причин. Во-первых, это частная собственность. Видимо, кто-то из местных землевладельцев не пожелал продать свой участок земли. А, во-вторых, нехватка денег на то, чтобы выкупить нужные для строительства участки и осуществить на них задуманно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о погорельцам надо было где-то жить. Люди строили землянки, полуземлянки и там жили. Образовалось даже целое поселение, состоящее из таких лачуг. В нём проживало порядка 10 000 человек. Условия жизни были очень тяжелы. Достаточно сказать, что там не было ни колодцев, ни водопровода. Люди были вынуждены ходить за водой на расстояние 1,5-2 километ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  1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В 1917 году население Барнаула составляло 56 000 человека. При этом на одну квартиру претендовало в среднем 6,4 жителя. А какова была общая площадь квартир, если на одного жителя приходилось в среднем 14,72 кв.  метра жилплощад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 уров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ешив задачу первого уровня, найдите, сколько было однокомнатных квартир, если это число составляет 65,5% от общего числа квартир (результат вычисления округлите до единиц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Сколько квартир могло находиться в деревянных домах, если таковых было 92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039680"/>
            <a:ext cx="769608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7 января 1918 года на Алтае была провозглашена Советская власть. Гражданская война, колчаковцы в Барнауле, освобождение города от них – смутное, неспокойное время. Время разрушать, а не созидать. Так к двадцатым года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ка город был довольно в плачевном состоянии. Не до конца залечивший раны пожар 1917-го года, пострадавший в годы гражданской войны, наш родной Барнаул. Но город и в этот период наряду с восстановлением жилого фонда занимался благоустройств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1 уров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дин из корней этого уравнения является протяжённостью заплота  (в км): 2х² = 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2 уров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кова общая протяжённость заплота (в км), если известно, что она меньше 1. Но если  ее увеличить в 3 раза, то она будет больше единицы ровно на столько, на сколько она была меньше её первоначаль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1 и 2 уров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Количество жилых зданий в Барнауле в 1920 году равнялось четырёхзначному числу. Найдите его, если известно, что сумма первых двух цифр равна сумме двух последних. Первые две цифры относятся как 2:1 соответственно, а последние две равны между собой, при этом вторая и третья цифры в сумме дают 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7696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го за период с 1918 по 1928 год в городе было восстановлено и отремонтировано домов общей жилой площади 126,6 тысяч квадратных метров. Но, не смотря на это, в 1926 году на одно жилое строение приходилось 8 человек. Город не имел в то время плана общей застрой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эти же годы были приняты меры по улучшению санитарной обработке в городе. В связи с этим 27 апреля 1926 года был спущён городской пруд, просуществовавший почти два ве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становление Барнаула в большей или меньшей степени закончилось лишь к 30-тым годам. Наряду со строительством жилых домов, заводов и т.п. в этот период широко развернулось строительство объектов культур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щё в 20-тые годах в Барнауле, как и в других городах Сибири, был построен памятник борцам за социализм на месте братской могилы погибших партизан и революционеров. Он был отрыт в 1927 году ( автор проекта А. А. Дубровский ) вместо деревянного надгробия над братскими могилами борцов за Советскую власть на проспекте имени В. И. Ленин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7696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40-50-х годах новым общественно-административным центром города стали здания крайкома КПСС, гостиницы “ Алтай “, кинотеатра “ Родина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годы Великой Отечественной войны культурное строительство в городе было приостановлено. В 1914 году в Барнауле были эвакуированы многие заводы, предприятия и вузы из европейской части советского Союза. Появились насущные заботы – строительство помещений для эвакуированных. Вспомогательные помещения ( склады, амбары и т.п.) переоборудовали в жилые помещения. Кроме того, в городе развернулось строительство зданий для жилья упрощённого типа. Строились они на свободных территориях близко к предприятиям, что в дальнейшем привело к ошибка в размещении жилого фонда в Барнауле. Структура города утратила единство и согласованность композиции. В послевоенные годы Барнаул помогал пострадавшим районам Советского Союза в их восстановл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06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1973 году было построено здание драматического театра. Проектировал его московский архитектор Н. П. Куренной. В здании сочетаются разные виды искусства: живопись на плафонах потолков фойе и зрительного зала, на оконных проёмах главного фасада – витражи, а на внешних поверхностях стен – моза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амятник В. И. Ленину на площади Советов был открыт 30 октября 1967 года. Его авторами являются скульптор И. Д. Бродский и архитектор В. В. Казарин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8184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696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  1 и 2 уров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те лишнее из представленных ниже рядов чисел. Последнее число ряда является высотой скульптур В. И. Ленина  (в метрах), отлитой в подмосковных Мытищах, которая сейчас стоит на площади Советов города Барнау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4,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46,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48,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50,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6,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8,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6,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0,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92,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0,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32,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0,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2,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4,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,4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8,4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4,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7,2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8,6; 11,6; 5,8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836640"/>
            <a:ext cx="769644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1962 году окончено строительство нового здания железнодорожного вокзала в Барнауле. Интересно, что точно такие же здания были построены в Новокузнецке, в Кемерово и Магнитогорске. Но железнодорожные вокзалы такого образца имеют ряд недостатков. В них не предусмотрено большое скопление народа, вследствие чего могут столкнуться противоположно направленные потоки людей. Кроме того, здание вокзала вообще маленькое для такого города, как Барнау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нако его строительство положило начало преобразованию привокзального района. В том же году был построен кинотеатр “Мир”. Напротив него 9 мая 1975 года состоялось открытие мемориала Славы, который включает в себя несколько элемент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дна из скульптур называется "Прощание” Это сцена прощания сына и матери. На лице женщины застыло выражение тревоги за судьбу своего ребёнка, но она знает, что он уже мужчина и должен защищать Родину. Несколько позади скульптуры возвышается обелиск с изображением героических сцен борьбы советского народа с захватчиками на фронте и тяжёлого труда в тылу во имя общей Побед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тех пор облик Барнаула изменился, но по-прежнему главной улицей города является проспект имени В. И. Ленина (раньше он назывался Московским, потому что по улице, возникает ещё в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еке, шёл путь в Москву и Петербург). На проспекте сейчас находятся важнейшие административные, учебные и общественные здания. Ночью же он светится неоновыми огнями множества магазинов. В честь 200-летия А. С. Пушкина 6 июня 1999 года на пересечении Пушкинской улицы и проспекта Ленина установлен памятник великому поэту. Создателями бронзового памятника являются скульптор Михаил Кульгачев и архитекторы Сергей Боженко и Валерий Митрофанов. Большой вклад в создание памятника внесли так же Марк Юдалевич и фонд “Пушкин и поэт”. Ещё одно архитектурное сооружение с недавних пор радует глаз барнаульцев и гостей города. На пересечении улиц Партизанской и проспекта Ленина расположено здание “ Три богатыря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олотистыми куполами на крыше. Его архитектором является В. И. Золотов. Существует подземная стоянка, а первый этаж занимают магазины. Этот дом обращает на себя внимание необычной архитектурой, ярко выделяясь на фоне других зда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696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конструировано здание железнодорожного вокзала, оно стало современным, удобным для пассажиров. Отремонтированы и получили новую высокотехнологичную начинку драматический театр, кинотеатры «Мир», «Россия», «Искр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род наш становится более современным, комфортным для его жителей и го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2000 году мэр Барнаула Владимир Николаевич Баварин мечтал о будущем нашего города так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ъезд в Барнаул со стороны нового моста через Обь – главные ворота города. Приезжающий увидит новые высотные жилые дома на Комсомольском проспекте, на улице Папанинцев, на Красноармейском… он непременно обратит внимание на реконструированный Нагорный парк, торговые ряды и кафе на его террасах, пляжную зону, фуникулер. С моста будут видны здания Обского бульвара. Думаю, что лет через 25 это будет законченный архитектурный ансамбль и любимое место отдыха горожан…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 времени этого интервью прошло более 7 лет. Район нового моста через Обь, действительно, любим жителями Барнаула. Именно здесь находится площадь имени В. Баварина, безвременно ушедшего из жизни. Что сбылось, что воплотится в действительность в ближайшем будущем – зависит от нас с вами, барнаульцев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ека. Хотелось бы, чтобы в нашем городе больше было оригинальных зда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>
            <a:hlinkClick r:id="rId2"/>
          </p:cNvPr>
          <p:cNvSpPr/>
          <p:nvPr/>
        </p:nvSpPr>
        <p:spPr>
          <a:xfrm>
            <a:off x="0" y="476280"/>
            <a:ext cx="4248000" cy="865080"/>
          </a:xfrm>
          <a:custGeom>
            <a:avLst/>
            <a:gdLst>
              <a:gd name="textAreaLeft" fmla="*/ 55800 w 4248000"/>
              <a:gd name="textAreaRight" fmla="*/ 4192200 w 4248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106032" h="21600">
                <a:moveTo>
                  <a:pt x="0" y="0"/>
                </a:moveTo>
                <a:lnTo>
                  <a:pt x="106032" y="0"/>
                </a:lnTo>
                <a:lnTo>
                  <a:pt x="106032" y="21600"/>
                </a:lnTo>
                <a:lnTo>
                  <a:pt x="0" y="21600"/>
                </a:lnTo>
                <a:close/>
              </a:path>
              <a:path fill="lightenLess" w="106032" h="21600">
                <a:moveTo>
                  <a:pt x="0" y="0"/>
                </a:moveTo>
                <a:lnTo>
                  <a:pt x="106032" y="0"/>
                </a:lnTo>
                <a:lnTo>
                  <a:pt x="104632" y="1400"/>
                </a:lnTo>
                <a:lnTo>
                  <a:pt x="1400" y="1400"/>
                </a:lnTo>
                <a:close/>
              </a:path>
              <a:path fill="darken" w="106032" h="21600">
                <a:moveTo>
                  <a:pt x="106032" y="0"/>
                </a:moveTo>
                <a:lnTo>
                  <a:pt x="106032" y="21600"/>
                </a:lnTo>
                <a:lnTo>
                  <a:pt x="104632" y="20200"/>
                </a:lnTo>
                <a:lnTo>
                  <a:pt x="104632" y="1400"/>
                </a:lnTo>
                <a:close/>
              </a:path>
              <a:path fill="darkenLess" w="106032" h="21600">
                <a:moveTo>
                  <a:pt x="106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632" y="20200"/>
                </a:lnTo>
                <a:close/>
              </a:path>
              <a:path fill="lighten" w="106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6032" h="21600">
                <a:moveTo>
                  <a:pt x="46010" y="10800"/>
                </a:moveTo>
                <a:lnTo>
                  <a:pt x="60023" y="3794"/>
                </a:lnTo>
                <a:lnTo>
                  <a:pt x="60023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лот представляет собой забор из толстых брёвен. Посреди этой городьбы находилось 5 караульных башен. Крепость имела 8 пуше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757 году в Барнаульском заводе было 537 домов. Из них 12 офицерских светлиц, 9 для приказных служителей, 146 для мастеровых и работных люд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 1 уров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Если количество домов в 1757 году (537 домов) умножить на 3, а количество домов в 1763 году на 2; и к первому числу прибавить 89, а ко второму 304, то они будут равны. Найдите, сколько домов было в городе в 1763 г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В 1757 году в Барнауле было 537 домов, что составляло 77% от того количества домов, которое было в Барнауле в 1763 г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42560" y="-36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7696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ом же 1763 году в посёлке имелось 290 бань. Подавляющее число зданий представляли собой деревянные срубы без фундамента с маленькими слюдяными окошеч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ой каменной постройкой в Усть – Барнаульском считается каменная кладовая палата. Здесь содержались деньги: золото и серебро. А в 1765 году были  построены каменная аптека и архив. Но все эти строения были весьма примитивны и представляли собой полуземлян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ли в Барнауле и церкви, но пока только деревянны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1 урове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Здание Петропавловского собора очень просто в плане. В его основании – прямоугольник. Найдите, какова была его площадь, если известно, что понадобилось бы 100 000 штук деревянных паркетных прямоугольников площадью по 10,4 см² в том случае, если бы кому-нибудь пришло в голову в Петропавловском соборе уложить паркет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Каков периметр основания Петропавловского собора, если его площадь 104 кв. метра? Известно, что одна его сторона больше другой на 5 метро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рковь Захария и Елизаветы повторяла во многом план Петропавловского со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оего архитектора в Барнаульском заводе не было, как впрочем, и во многих других сибирских городах. Строительством руководили народные маст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771 году Петропавловский собор находился в плохом состоянии и требовал немедленного и основательного ремонта. Но было решено идти по другому пути. И вместо ремонта ветхой деревянной церкви решили строить новую, каменную. В1774 году строительство нового Петропавловского собора было оконче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1817 по 1829 годы строительство в Барнауле шло интенсивно. В эти годы заводом управлял Фролов ( к этому имени мы ещё не раз вернёмся в дальнейше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городе появились архитекторы. Городской план приобрёл законченную форму сети прямоугольных кварталов. Почти все улицы получили ширину 20-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ров.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Московский переулок на всём своём протяжении расширился на несколько метров. Известно, что количество саженей, на которое он расширился, является следующим членом последовательнос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4, 8, 12, 16,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 на сколько метров он расширился (1 сажень = 2,1336 м )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 уров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Московский переулок расширился на несколько метров на всём своём протяжении. Количество дополнительных метров – двухзначное число, такое, что если сложить его цифры – будет 6, а если перемножить их, то будет 8. Причём первая цифра больше второй. На сколько метров расширился переулок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7:55:51Z</dcterms:created>
  <dc:creator>user</dc:creator>
  <dc:description/>
  <dc:language>en-US</dc:language>
  <cp:lastModifiedBy>User</cp:lastModifiedBy>
  <dcterms:modified xsi:type="dcterms:W3CDTF">2008-12-22T09:56:45Z</dcterms:modified>
  <cp:revision>45</cp:revision>
  <dc:subject/>
  <dc:title>Архитектура.</dc:title>
</cp:coreProperties>
</file>